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00F-A0FB-4CEA-B42F-DA84D369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0FF-E80A-48FE-86AA-710BB2B1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771-2C60-4EB7-979D-13F26C9A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65F-2CC6-4CBC-87C9-71BAF79B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0D3-7AE9-4974-9BCE-4563A1A0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6D0-DC76-41E9-BF83-63919A1A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6DC-CF28-49FF-8AC7-EAB6AEA4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776-EAA3-40E6-B33C-C407862F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E41-2408-4AF9-87A9-C524DFA4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629-92BA-45CB-8815-DDA06D0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77D-0181-4BE2-B5FD-66FE07F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8FB-FA85-4149-9B4A-8AD57BDF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C0D-1F18-47FB-9635-E5D9FAFC9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nish and Pre-Columbi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Cody 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9480" y="3581280"/>
            <a:ext cx="2514600" cy="99072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04920"/>
            <a:ext cx="1371600" cy="152388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476760" y="304920"/>
            <a:ext cx="1981080" cy="18288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562360" y="3657240"/>
            <a:ext cx="1981080" cy="106668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. the effects of European diseases, particularly smallpox, throughout the West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ztecs lived in Central Mexic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ir capital Tenochitlan was in the middle of a l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ztecs were polytheistic which meant they believed In many g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believed in a god called Quetzacoatl who would arrive in the year 15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controlled many other tribes and used them as sl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ztecs leader was Montez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 Tenochitlan is now  Mexico 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thought Cortez was Quetzacoatl because of his pale white skin and his men and hor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tez killed Montezuma and destroyed Tenochitl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465280"/>
            <a:ext cx="4038480" cy="2795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8240" y="48762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ved in the Andes mountains and P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writte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knots as mess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d animal sacrifice and occasionally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as did not care for gold and other met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as used metals for déc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 of Incas was Atahua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huapla was captured for ransom but was k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648320" cy="44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17720" y="57906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ved in Yucatan Peninsul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t just one major capital so it was much harder to conqu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were polytheis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did not own much gol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 slaves who could sometimes escap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2870280"/>
            <a:ext cx="4038480" cy="198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61400" y="52570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pace.utexas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iard and Conquis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tez was mistaken for a god named Quetzacoa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tez took Montezuma hostage and killed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ish retreated and then defeated the Azte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05440" y="2857680"/>
            <a:ext cx="1524240" cy="200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09480" y="510552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hepiratek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zzaro was an explorer and a conquistador from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traveled with 180 men and 27 horses into the Andes Mt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as were easily taken over because of civil war.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(Fighting between two or more groups in the same coun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hulpa, Inca emperor was captured by Pizzaro and held for g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as did not value metals instead they valued woven clo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zzaro tricked Incas and soon conquered their capi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29240" y="285768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85080" y="502848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ssexplorers.yolasite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conquistadors changed Central and South America, the Aztec, Inca and Maya  language and culture would still be remembered. Today most people in Mexico are Christian and speak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7:06Z</dcterms:created>
  <dc:creator>jklib</dc:creator>
  <dc:description/>
  <dc:language>en-US</dc:language>
  <cp:lastModifiedBy>jklib</cp:lastModifiedBy>
  <dcterms:modified xsi:type="dcterms:W3CDTF">2011-11-29T13:55:41Z</dcterms:modified>
  <cp:revision>9</cp:revision>
  <dc:subject/>
  <dc:title>Spanish and Pre-Columbian Civilizations</dc:title>
</cp:coreProperties>
</file>